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25A-8D3C-412C-B97C-4708E0A8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B21-6E9E-437D-A00C-8FEA484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7E3-C786-48B7-A20D-B88DA7CF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D15-6139-4A91-987C-3C7BE0EC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98BF-8633-4E43-B114-230A6949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20C5-80ED-4E69-9C17-550D873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76D-A8C0-4966-A713-0CF5C1B7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88E-0ED2-434F-A1BD-FB0E368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0DC-8C3B-40BB-8DE4-C37D1AB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E33-A4A3-4CEE-8BD2-4E7993E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361A-7F11-4D3A-97BB-DF36DB1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B9D-D545-4826-AE27-618B0453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4D61-D408-4BDE-8AF9-FD52AC0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9919-D90C-414C-B67B-DF4835F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342-AED2-437E-A2D7-070C4F8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2A4-345F-46B5-9E61-0A7AACE6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0BC-D221-483A-A7F5-54865872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01E2-3557-4FBA-BF42-4AAB67C5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8A4B-8AA2-4E29-BB51-FA9D251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74AB-540C-4916-ABD1-48E0A1C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923F-7F3A-4BFA-9A57-A76842F0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8CD2-3B52-499B-B105-B727E961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7A8-429B-494C-9F24-716C9929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A5FF-10D9-454D-997F-FBD90849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1D96-6009-4D71-AC54-558B0FE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E0A8-5965-49C5-934B-DCD4010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0E7A-FBC6-4D29-9579-D0A3CC9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58E2-48F8-4AC2-A767-25E94172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348E-20A3-4CF6-B068-05EC3CD9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6AD8-E774-4844-96B6-EE8E596E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137A-2C30-41AB-9B2B-1B002614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F683-90BF-4606-9F7C-AA62F7B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0304-3546-4FB6-A549-6CA1B4F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9A4-AAD5-46E1-98C6-498772F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C66A-D3DE-4693-92E9-943E9EC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D476-A24C-434D-B4B2-665C41D8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E506-1156-451B-8C0B-098D39F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82D9-4FC5-41B7-8035-B272C8B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2E92-8B21-4EF4-BFF8-C4568FA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DF28-407A-4A38-9020-B4343F3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BA8C-5A0E-4D21-8172-FBD969CC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C078-7886-4075-AA83-E6EDA56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DD84-2E40-42CD-8ADD-8D2A204F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5281-EDE3-461C-9B21-AC0DD29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51E-CD7D-4E03-B820-57400E1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799D-10B9-448E-9B4E-1AC9FBC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6095-1647-49B5-BA7E-4036B4C7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1A3B-9D7F-4E3D-B3F2-23567B21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E819-5C9F-49FC-BCE9-C483B6E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23D6-5E22-4D1B-805E-8FE47EE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2CAA-AE9E-4718-AD31-1401CBD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9C4B-73B0-4BF2-98FC-427064B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97E8-FEC9-432E-B911-436D5AB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6C8A-FB86-4FF6-9F69-DCBA316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1E6D7-9C22-4A0B-8A4F-3492E577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627-B6F8-4AE8-A61B-D35D7D6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A684-A9E6-4EBE-B050-F7CC16EE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1CBE-6DF2-45D2-9D36-73B6E662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F37F-802C-4218-B0E0-87FBFED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0FAA-82CE-4961-ACF6-1F635DD2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08156-7AC4-48BF-9CF4-C5DA94F0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B79B-884A-4BCA-9481-1F4FC197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A922A-9677-439D-A5D4-CB5D67E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4F8ED-2BD8-46B3-8083-D7BED2D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5CB8-265F-4098-AF66-B081389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2BE2-0CCD-4865-B580-CDAECA4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19E-DEED-49B0-AA6B-4746638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0E40-F8A9-4B9B-A5E4-AB159309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9319-13E7-4754-9604-9AFE0881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70B7C-CB01-4005-9859-6DD1F1CA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5388-3412-4064-9433-27259F6F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4720-05E1-4333-8BDA-F6133B46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9DE4-621E-4BD2-90CC-DC79B9A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2BD3-A3F1-4EF6-A48C-711B24E2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AFED-8F18-488E-8576-38B12574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2306-FCE3-48D5-967C-514C75A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A7A1-ABA3-4B1A-9C13-F617A74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61B-0B98-463C-A5E4-EA321A8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FA53-C8D2-4C55-8EDF-4A3D997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8BC6-67F8-42CB-8961-462AD97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3C22-A572-49E6-82B6-FC2BACC1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795C-4CCD-49D5-85CD-8BA6280F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AB05-FAF2-4573-9741-BF94E943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D98-0419-4CD9-B2C7-A45DFFC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D3A-C560-4AB9-9C3A-90C35FA891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1CF-A7BE-4818-9430-FC28D83FE1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A5B2-5F88-4EAF-9A77-7C623C4545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E33-4EEC-40EF-9D26-9E2A5DEC19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6210-B4C7-4FBF-98D3-25B48A356D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F96C-1FE7-4707-9391-6EBD2DF95B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8CCE-B69C-4570-8DD8-CF5F4E45D1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306828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72314"/>
                </a:solidFill>
                <a:uFillTx/>
                <a:latin typeface="Corbel"/>
              </a:rPr>
              <a:t>Автор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: </a:t>
            </a:r>
            <a:br>
              <a:rPr sz="2200"/>
            </a:br>
            <a:r>
              <a:rPr b="0" i="1" lang="ru-RU" sz="2200" spc="-1" strike="noStrike">
                <a:solidFill>
                  <a:srgbClr val="572314"/>
                </a:solidFill>
                <a:latin typeface="Corbel"/>
              </a:rPr>
              <a:t>Кустова Анна Александровна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учитель литературы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Железногорск, МБОУ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Гимназия 91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им. М.В.Ломоносова 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1555920" y="557280"/>
            <a:ext cx="74991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дставление учебного проекта «Коты и кошки в литературе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C:\Users\про\Desktop\про кошек\kot_bajun.jpg"/>
          <p:cNvPicPr/>
          <p:nvPr/>
        </p:nvPicPr>
        <p:blipFill>
          <a:blip r:embed="rId1"/>
          <a:stretch/>
        </p:blipFill>
        <p:spPr>
          <a:xfrm>
            <a:off x="5162400" y="3657600"/>
            <a:ext cx="3822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25992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егулятивные УУ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остоятельно формулировать цели; совместно с учителем составлять план решения проблем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я по плану, сверять свои действия с целью и, при необходимости, исправлять ошибки с помощью учител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C:\Users\про\Desktop\котовасия\картинки2\cat021.gif"/>
          <p:cNvPicPr/>
          <p:nvPr/>
        </p:nvPicPr>
        <p:blipFill>
          <a:blip r:embed="rId1"/>
          <a:stretch/>
        </p:blipFill>
        <p:spPr>
          <a:xfrm>
            <a:off x="5148360" y="4095720"/>
            <a:ext cx="3600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Познавательные УУД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иентироваться в своей системе знаний: самостоятельно предполагать, какая информация нужна для решения учебной задач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бирать необходимые для решения учебной задачи источники информации 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бывать новые знания: извлекать информацию, представленную в разных формах (текст, таблица, схема, иллюстрация и др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рабатывать полученную информацию: сравнивать и группировать факты и явления; определять причины явлений, событ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лать выводы на основе обобщения зна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образовывать информацию из одной формы в другую: составлять  цитатный план, составлять таблицу, схем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ать с понятиями: жанр, пословица, поговорка, фразеологизм, примета, крылатое выражение, сказка, рассказ, герой, авторская позиц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ть интерпретировать текс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04640"/>
            <a:ext cx="7499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Коммуникативные УУД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носить свою позицию до других: оформлять свои мысли в устной и письменной речи с учётом своих учебных и жизненных речевых ситуац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сказывать свою точку зрения и пытаться её обосновать, приводя аргумен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лушать других, пытаться принимать другую точку зрения, быть готовым изменить свою точку зр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3" descr="C:\Users\про\Desktop\котовасия\картинки2\cat035.gif"/>
          <p:cNvPicPr/>
          <p:nvPr/>
        </p:nvPicPr>
        <p:blipFill>
          <a:blip r:embed="rId1"/>
          <a:stretch/>
        </p:blipFill>
        <p:spPr>
          <a:xfrm>
            <a:off x="6875640" y="4437000"/>
            <a:ext cx="1987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альманаха – сборника творческих работ учащихся (История, рассказанная кошкой (котом), Памятник коту (кошк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о литературных котах и кошках учащимся начальной школ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6" descr="C:\Users\про\Desktop\котовасия\картинки2\cat019.gif"/>
          <p:cNvPicPr/>
          <p:nvPr/>
        </p:nvPicPr>
        <p:blipFill>
          <a:blip r:embed="rId1"/>
          <a:stretch/>
        </p:blipFill>
        <p:spPr>
          <a:xfrm>
            <a:off x="3492360" y="4724280"/>
            <a:ext cx="27370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634984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catsrepublic.ru/kotote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71440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http://festival.1september.ru/articles/567706/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ловицы, поговорки о котах и кошках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ttp://mau.ru/read/word/russian.ph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084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5724360" y="2421000"/>
            <a:ext cx="3589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етод проектов даёт большие возможности для учителя и ученика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организации самостоятельной работы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ет зарождению интереса к последующим дела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буждает детей добывать новые знания, использовать имеющийся опыт при решении конкретных пробле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школьникам почувствовать, насколько значимы приобретённые ими знания для жизн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кумулирует все знания, умения и навыки учащихс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зывает большой личностный интерес у детей и выводит их на принципиально новую ступень познания и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исследовательские навыки ученик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группово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зволяет формировать навыки самообразования и самоконтрол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Характеристика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16000" y="836280"/>
            <a:ext cx="781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доминирующе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поисковый, творческ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едметно-содержательной обла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межпредметный (русский язык, информатика, биология, изо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характеру контакт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среди одноклассников;</a:t>
            </a: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количеству участников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индивидуальный, группов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По продолжи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краткосрочный (11 час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71640" y="188640"/>
            <a:ext cx="59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ключение подростка в ситуацию осуществляется через  создание проблемной ситу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Достижение цели проек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уществляется через анализ произведений, создание презентаций, написания сочинения, создания иллюстрированного альбома историй от лица кота (кошки), памятников коту, кош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про\Desktop\котовасия\картинки2\cat016.gif"/>
          <p:cNvPicPr/>
          <p:nvPr/>
        </p:nvPicPr>
        <p:blipFill>
          <a:blip r:embed="rId1"/>
          <a:stretch/>
        </p:blipFill>
        <p:spPr>
          <a:xfrm>
            <a:off x="6724800" y="4606920"/>
            <a:ext cx="2419200" cy="2251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Users\про\Desktop\котовасия\картинки2\cat017.gif"/>
          <p:cNvPicPr/>
          <p:nvPr/>
        </p:nvPicPr>
        <p:blipFill>
          <a:blip r:embed="rId2"/>
          <a:stretch/>
        </p:blipFill>
        <p:spPr>
          <a:xfrm>
            <a:off x="6989760" y="260280"/>
            <a:ext cx="197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сновополагающий вопрос проекта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7280" y="980640"/>
            <a:ext cx="6840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Corbel"/>
              </a:rPr>
              <a:t>Почему коты и кошки становятся частыми героями произведени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1042920" y="242100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ные вопросы проекта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одержимое 2"/>
          <p:cNvSpPr/>
          <p:nvPr/>
        </p:nvSpPr>
        <p:spPr>
          <a:xfrm>
            <a:off x="1619280" y="3645000"/>
            <a:ext cx="7211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ми качествами наделяются коты и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ва художественная роль образа кота, кошки в произвед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C:\Users\про\Desktop\котовасия\картинки2\mouse063.gif"/>
          <p:cNvPicPr/>
          <p:nvPr/>
        </p:nvPicPr>
        <p:blipFill>
          <a:blip r:embed="rId1"/>
          <a:stretch/>
        </p:blipFill>
        <p:spPr>
          <a:xfrm>
            <a:off x="1042920" y="3645000"/>
            <a:ext cx="627120" cy="82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042920" y="5373720"/>
            <a:ext cx="6271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чебные темы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052280"/>
            <a:ext cx="5801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1.Образы котов и кошек в фольклоре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словицы, поговорки, приметы, связанные с котами и кошка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казки о котах и кошках («Кот, петух и лиса», «Кот и Лиса», «Поди туда – не знаю куда, принеси то – не знаю что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2.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ы котов и кошек в литературных сказках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Ш.Перро «Кот в сапогах», братья Гримм «Бременские музыканты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3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. Иллюстрации к произведениям о котах и кошках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C:\Users\про\Desktop\котовасия\картинки2\cat186.gif"/>
          <p:cNvPicPr/>
          <p:nvPr/>
        </p:nvPicPr>
        <p:blipFill>
          <a:blip r:embed="rId1"/>
          <a:stretch/>
        </p:blipFill>
        <p:spPr>
          <a:xfrm>
            <a:off x="6459480" y="1557360"/>
            <a:ext cx="268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87280" y="189000"/>
            <a:ext cx="75614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4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Образ кота в рассказе К.Паустовского «Кот-ворюга» (2 час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казки про животных и рассказы о животных: сходства и отлич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чему Кот-ворюга стал Котом-милиционером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2223"/>
                </a:solidFill>
                <a:latin typeface="Corbel"/>
              </a:rPr>
              <a:t>5.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Мой любимец (Мультипликационные коты и кошки) (1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едставление презент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6. История, рассказанная кошкой (котом) (2 часа) – урок развития ре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7. Памятник коту (кошке)  (1 час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        </a:t>
            </a:r>
            <a:r>
              <a:rPr b="1" lang="ru-RU" sz="2400" spc="-1" strike="noStrike">
                <a:solidFill>
                  <a:srgbClr val="922223"/>
                </a:solidFill>
                <a:latin typeface="Corbel"/>
              </a:rPr>
              <a:t>Всего:  11 ча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C:\Users\про\Desktop\котовасия\картинки2\cat020.gif"/>
          <p:cNvPicPr/>
          <p:nvPr/>
        </p:nvPicPr>
        <p:blipFill>
          <a:blip r:embed="rId1"/>
          <a:stretch/>
        </p:blipFill>
        <p:spPr>
          <a:xfrm>
            <a:off x="0" y="4178160"/>
            <a:ext cx="2340000" cy="2679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C:\Users\про\Desktop\котовасия\картинки2\cat022.gif"/>
          <p:cNvPicPr/>
          <p:nvPr/>
        </p:nvPicPr>
        <p:blipFill>
          <a:blip r:embed="rId2"/>
          <a:stretch/>
        </p:blipFill>
        <p:spPr>
          <a:xfrm>
            <a:off x="6405480" y="4076640"/>
            <a:ext cx="27385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71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анный учебный проект способствует формированию и развитию УУД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Личностные УУД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: познавательный интерес к чтению, способность к самооценке на основе критериев успешности учебной деятельности; ориентация в системе моральных норм и ценностей, их присвоени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37:33Z</dcterms:created>
  <dc:creator>про</dc:creator>
  <dc:description/>
  <dc:language>en-US</dc:language>
  <cp:lastModifiedBy>pedagog</cp:lastModifiedBy>
  <dcterms:modified xsi:type="dcterms:W3CDTF">2014-05-22T07:31:18Z</dcterms:modified>
  <cp:revision>167</cp:revision>
  <dc:subject/>
  <dc:title>Диагностические аспекты предметной одарённости (русский язык, литература)</dc:title>
</cp:coreProperties>
</file>